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979A-CD2A-48F1-ABA4-65894D3E5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3BC3-61AD-45BB-AD91-E29FAA30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17E8-D749-4D96-81D0-6653F6C7B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EE5E-6EAF-415F-AED3-8F296E097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9B4F-4D06-406E-82F1-4423A146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27F1-E631-4E43-A6C7-1501231F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DDB2-43DC-48E5-AA70-92B39268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5AB7-C675-49DC-A542-825198A7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9D12-EE38-44B7-810F-55D2FF9D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2877-9BBE-44F3-8B52-BD7EC0CD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093B-FA26-4BEF-B19C-3F8D34DA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6427-D50E-479D-87BD-3C41AE3C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D0B1-3519-4F00-AF00-F38D9C44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3D1C-576C-4666-8490-FD56196B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F52E-60D5-41D3-9DD4-DF939C25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8AF7-97E8-4307-AA6D-A6C2ADF2D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1EEC-19AC-49DE-BDF3-A7AA320CC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ED50-8361-4BE5-A1BC-05C2DF84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33A1-D6FC-4FD0-BC74-F48F6E78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3D65-8DA7-466C-A35C-32481040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8424-4B16-4F0A-95C3-A309A35A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5BAD-0331-4E2D-86EF-53E94875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C151-37B5-4170-B696-EDBCD71B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606F-BC84-43E7-A438-5BBACEF5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29C3-1E00-47B4-8AAB-6B1E502E03ED}" type="slidenum"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299E-8F09-463D-AD74-E2C9857B803E}" type="slidenum">
              <a:rPr b="0" lang="el-GR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16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7d47d"/>
                </a:solidFill>
                <a:latin typeface="Arial"/>
              </a:rPr>
              <a:t>Ευάλωτες Κοινωνικά Ομάδες</a:t>
            </a:r>
            <a:br>
              <a:rPr sz="3200"/>
            </a:br>
            <a:r>
              <a:rPr b="0" lang="el-GR" sz="3200" spc="-1" strike="noStrike">
                <a:solidFill>
                  <a:srgbClr val="f7d47d"/>
                </a:solidFill>
                <a:latin typeface="Arial"/>
              </a:rPr>
              <a:t>Κρατούμενοι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Ιωσήφ Φραγκούλη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7d47d"/>
                </a:solidFill>
                <a:latin typeface="Arial"/>
              </a:rPr>
              <a:t>Περιεχόμενο εκπαιδευτικού Συμβολαίου 1/2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f1311"/>
                </a:solidFill>
                <a:latin typeface="Arial"/>
              </a:rPr>
              <a:t>Σύμφωνα με τον Rogers (1999) το συμβόλαιο πρέπει να περιέχει τουλάχιστον τα παρακάτω στοιχεία: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f1311"/>
                </a:solidFill>
                <a:latin typeface="Arial"/>
              </a:rPr>
              <a:t>σε τι αναφέρεται το πρόγραμμα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f1311"/>
                </a:solidFill>
                <a:latin typeface="Arial"/>
              </a:rPr>
              <a:t>ποιο είναι το θέμα του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f1311"/>
                </a:solidFill>
                <a:latin typeface="Arial"/>
              </a:rPr>
              <a:t>τι θα καλύψει και σε ποιο επίπεδο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f1311"/>
                </a:solidFill>
                <a:latin typeface="Arial"/>
              </a:rPr>
              <a:t>ποια είναι η μορφή του προγράμματος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7d47d"/>
                </a:solidFill>
                <a:latin typeface="Arial"/>
              </a:rPr>
              <a:t>Περιεχόμενο εκπαιδευτικού Συμβολαίου 2/2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πόσο θα διαρκέσει και ποια θα είναι η συχνότητα και η διάρκεια των συναντήσεων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τι είδους εργασίες θα απαιτηθούν στις συναντήσεις ή στη διάρκεια των συναντήσεων της ομάδας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ποιες είναι οι υποχρεώσεις τους από τη συμμετοχή τους στο πρόγραμμα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7d47d"/>
                </a:solidFill>
                <a:latin typeface="Arial"/>
              </a:rPr>
              <a:t>Διερεύνηση επιμορφωτικών αναγκών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Με ερωτηματολόγιο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Με συνεντεύξει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Με προφορική επικοινωνία- συζήτηση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7d47d"/>
                </a:solidFill>
                <a:latin typeface="Arial"/>
              </a:rPr>
              <a:t>Χαρακτηριστικά Εγκλεισμού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Στέρηση Ελευθερία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Στέρηση Υλικών Αγαθών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Σεξουαλική Στέρηση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Στέρηση Αυτονομία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Στέρηση Ασφάλεια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Κοινωνικός Αποκλεισμός-Περιθωριοποίηση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7d47d"/>
                </a:solidFill>
                <a:latin typeface="Arial"/>
              </a:rPr>
              <a:t>Λόγοι που καθιστούν αναγκαία την εκπαίδευση κρατουμένων 1/2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Επανασύνδεση κρατουμένων με την εκπαιδευτική διαδικασία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Απόκτηση και αναβάθμιση βασικών δεξιοτήτων (δυνατότητα παραγωγής γραπτού και προφορικού λόγου, κατανόηση κειμένων, κτλ.)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απόκτηση νέων βασικών δεξιοτήτων (χρήση Η/Υ, παραγωγή κειμένων, διαμόρφωση αιτήσεων, επεξεργασία εικόνας, κτλ)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7d47d"/>
                </a:solidFill>
                <a:latin typeface="Arial"/>
              </a:rPr>
              <a:t>Λόγοι που καθιστούν αναγκαία την εκπαίδευση κρατουμένων 2/2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Απόκτηση κοινωνικών δεξιοτήτων (δυνατότητα επικοινωνίας και επίλυσης προβλημάτων που αφορούν στην καθημερινή ζωή, π.χ. γραπτή υποβολή αίτησης, αναζήτηση πληροφορίας)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Δημιουργική αξιοποίηση ελεύθερου χρόνου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Επαγγελματικός επαναπροσανατολισμό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934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7d47d"/>
                </a:solidFill>
                <a:latin typeface="Arial"/>
              </a:rPr>
              <a:t>Διαφορές στην εκπαίδευση των κρατουμένων σε σχέση με την εκπαίδευση του γενικού πληθυσμού 1/2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f1311"/>
                </a:solidFill>
                <a:latin typeface="Arial"/>
              </a:rPr>
              <a:t>Στο γενικό πληθυσμό οι εκπαιδευόμενοι έχουν το δικαίωμα της επιλογής, του αυτοκαθορισμού και της αυτοδιάθεσης ενώ στον έγκλειστο πληθυσμό τα ίδια δικαιώματα ακυρώνονται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f1311"/>
                </a:solidFill>
                <a:latin typeface="Arial"/>
              </a:rPr>
              <a:t>το γενικό πληθυσμό οι μαθητές έχουν πλήθος εμπειριών τις οποίες χρησιμοποιούν θέτοντας ανάλογους στόχους. Ο έγκλειστος πληθυσμός έχει συχνά αρνητικές εμπειρίες από το εκπαιδευτικό σύστημα και είναι ιδιαίτερα επιφυλακτικός απέναντι σε κάθε νέα πρόκληση εκπαιδευτικής προσπάθειας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8467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7d47d"/>
                </a:solidFill>
                <a:latin typeface="Arial"/>
              </a:rPr>
              <a:t>Διαφορές στην εκπαίδευση των κρατουμένων σε σχέση με την εκπαίδευση του γενικού πληθυσμού 2/2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2f1311"/>
                </a:solidFill>
                <a:latin typeface="Arial"/>
              </a:rPr>
              <a:t>Στο γενικό πληθυσμό οι εκπαιδευόμενοι επιδιώκουν μέσω της παιδείας τη βελτίωσης των όρων της ζωής τους και την αντιμετώπιση των προβλημάτων τους με τον καλύτερο δυνατό τρόπο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2f1311"/>
                </a:solidFill>
                <a:latin typeface="Arial"/>
              </a:rPr>
              <a:t>για τους κρατούμενους πρώτιστος στόχος είναι η αποφυλάκιση και η επιβίωση στον χώρο του εγκλεισμού που γεννά πολλά δεινά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2f1311"/>
                </a:solidFill>
                <a:latin typeface="Arial"/>
              </a:rPr>
              <a:t>Το αίτημα για επανάκτηση της ελευθερίας, της ανεξαρτησία, της ασφάλεια και της κοινωνικής αποδοχής υπερέχει έναντι του αιτήματος για εκπαίδευση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7d47d"/>
                </a:solidFill>
                <a:latin typeface="Arial"/>
              </a:rPr>
              <a:t>Ρόλος εκπαιδευτή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Υποστηρικτικό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Ενθαρρυντικό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Διευκολυντικό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Κοινωνικό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Διαμεσολαβητικό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Συμβουλευτικό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Ενεργού ακροατή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7d47d"/>
                </a:solidFill>
                <a:latin typeface="Arial"/>
              </a:rPr>
              <a:t>Ενέργειες εκπαιδευτή για να είναι αποτελεσματικός στο έργο του 1/2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2f1311"/>
                </a:solidFill>
                <a:latin typeface="Arial"/>
              </a:rPr>
              <a:t>Καταρτίζει από κοινού με την ομάδα το εκπαιδευτικό συμβόλαιο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2f1311"/>
                </a:solidFill>
                <a:latin typeface="Arial"/>
              </a:rPr>
              <a:t>Δεν ρωτά ποτέ τα μέλη της ομάδας για τα τυχόν τελεσθέντα αδικήματα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2f1311"/>
                </a:solidFill>
                <a:latin typeface="Arial"/>
              </a:rPr>
              <a:t>Προσέρχεται πάντα στην ώρα του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2f1311"/>
                </a:solidFill>
                <a:latin typeface="Arial"/>
              </a:rPr>
              <a:t>Προετοιμάζει με συνέπεια το μάθημα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2f1311"/>
                </a:solidFill>
                <a:latin typeface="Arial"/>
              </a:rPr>
              <a:t>Δεν δίνει ούτε και παίρνει πράγματα από τα μέλη της ομάδας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7d47d"/>
                </a:solidFill>
                <a:latin typeface="Arial"/>
              </a:rPr>
              <a:t>Ενέργειες εκπαιδευτή για να είναι αποτελεσματικός στο έργο του 2/2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Σέβεται τους κανόνες της φυλακής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Δεν δίνει υποσχέσεις που δεν μπορεί να τηρήσει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Αποφεύγει να φορτίσει το κλίμα και να πυροδοτήσει συγκρούσεις με το περιεχόμενο της διδασκαλίας του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Κρατά ουδέτερη στάση σε περίπτωση σύγκρουσης στην ομάδα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Γεώργιος Φραγκούλης</cp:lastModifiedBy>
  <dcterms:modified xsi:type="dcterms:W3CDTF">2022-05-18T06:19:19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